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F91A-3C01-4A4D-A7D1-3E2DD430C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B683-F9CA-4A0E-AF51-C8DA73A381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5CD-DEEB-413C-B444-6536E5DD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E7F-D9FA-40D3-8BAB-8792472B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06C-0D0F-45EA-BDE2-2F379756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131-512C-470D-A6C5-1448C987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ACF-0B3B-4993-B409-78A2F72F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D85-B2A3-4817-91BA-85D4FE4C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A5A-9038-4B77-BA22-228BD944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864-4882-4947-B327-67A3662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E37-2414-495D-9E8D-D6754A41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441-65EC-42A8-B108-8248AA13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2B1-80E1-4929-B9C1-6E94B11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D4D-4562-4A27-8D1F-F7511E42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84E-F249-436D-8DB6-018EAE6DB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E995-95B3-4646-8BAB-856A227396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мая 202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3318-4CFC-4BF3-9D8B-547CE734CB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я 2022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79280" y="333360"/>
          <a:ext cx="896472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33360"/>
                    <a:ext cx="89647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2-05-04T04:26:47Z</dcterms:modified>
  <cp:revision>138</cp:revision>
  <dc:subject/>
  <dc:title>Презентация PowerPoint</dc:title>
</cp:coreProperties>
</file>